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AD6F4-1E6C-4F32-AE39-C0BF4F2E22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8A986-9282-4B03-884A-A95FEB77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D90A7-E39B-46B9-B2F5-9CCDCC54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6218E-7D69-4758-8EFB-40FBD10E89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C5062-2017-4B12-91F5-3454EB64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354E6-4AA3-482C-A773-06A0F2FD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398B6-22D1-4868-B031-EAB57287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225FB-D5BD-406B-A8C1-AC5E81AE6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6A08B-4846-4DCF-8D31-3538D5AA9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7A8D3-D240-4F26-94B6-83D176B8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9BF65-64E2-4A2E-95B8-26B28E81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457F4-6746-4851-BE37-8B8896F0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CB7F-3F3B-4A15-B2F8-454381DF8D4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05000"/>
            <a:ext cx="3456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三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价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044720" y="4438800"/>
            <a:ext cx="73436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  <a:ea typeface="宋体"/>
              </a:rPr>
              <a:t>第五节  吞咽功能评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252360" y="1844280"/>
            <a:ext cx="4038480" cy="45277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期吞咽障碍：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流涎，唇闭合无力，鼓腮不能，构音障碍，舌无力影响咀嚼，吞咽后口内有食物残留，分次吞咽，仰头吞咽、低头吞咽，口阶段吞咽延迟，咽反射异常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五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716000" y="1701720"/>
            <a:ext cx="4038840" cy="45244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部吞咽障碍 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唾液在口咽部聚集，不能咽下，需定期吐出，主咳嗽反射减弱、声音减弱或不能自主咳嗽，分次吞咽，吞咽延迟，结构上提幅度降低，无效吞咽作，咽下困难，鼻反流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900000" y="1916280"/>
            <a:ext cx="7632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一）评定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了解患者是否存在吞咽障碍，发生吞咽障碍的可能病因，找出吞咽过程中存在的解剖和生理异常，为制订康复治疗方案提供客观依据。 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，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99640" y="2276280"/>
            <a:ext cx="727236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临床检查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史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服药史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营养状态</a:t>
            </a:r>
            <a:r>
              <a:rPr b="1" lang="zh-CN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900000" y="1988640"/>
            <a:ext cx="806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功能评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唇的运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颌的位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软腭运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喉的运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的运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900000" y="2133720"/>
            <a:ext cx="740736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功能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反复唾液吞咽试验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冷按摩引发吞咽测试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饮水测试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4.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摄食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过程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4060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饮水测试</a:t>
            </a: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得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内饮完，无呛咳、停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一次饮完，但超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，或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饮完，无呛咳、停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能一次饮完，但有呛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以上饮完，有呛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呛咳多次发生，全部饮完有困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判断标准：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为正常；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为可疑；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以上为异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971640" y="1484280"/>
            <a:ext cx="777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器械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X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线荧光透视检查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VFSS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表面肌电图检查 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SEMG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钡造影检查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超声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5367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6720" y="2421000"/>
            <a:ext cx="688680" cy="593280"/>
            <a:chOff x="1836720" y="242100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42120" y="243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6720" y="242100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6680" y="245592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2061360" y="249408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6720" y="3286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3357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79640" y="4221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052720" y="4941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2318-2609-4C46-9CE2-A5B7A72A97F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12720" y="1413000"/>
            <a:ext cx="806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描述吞咽障碍的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比较不同颅神经损伤对吞咽功能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饮水试验对脑卒中后吞咽障碍患者进行康复评价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2124000" y="2562120"/>
            <a:ext cx="4897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i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一）吞咽障碍</a:t>
            </a:r>
            <a:r>
              <a:rPr b="0" i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---</a:t>
            </a:r>
            <a:r>
              <a:rPr b="0" i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</a:t>
            </a: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92000" y="2357280"/>
            <a:ext cx="756144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障碍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dysphagia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食物从口腔运送到胃的过程中出现障碍的一种表现。是一种常见的临床症状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99640" y="2060640"/>
            <a:ext cx="737244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整个吞咽过程分为五个阶段 ：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先行期（认知期）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准备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部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食管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47280" y="115560"/>
            <a:ext cx="71298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吞咽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9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092720" cy="46162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2700360" y="5995080"/>
            <a:ext cx="39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过程阶段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71560" y="1844280"/>
            <a:ext cx="7408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三叉神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面神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咽神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迷走神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下神经</a:t>
            </a:r>
            <a:r>
              <a:rPr b="1" lang="zh-CN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-98280"/>
            <a:ext cx="8229600" cy="12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三）吞咽有关的神经支配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71560" y="1557360"/>
            <a:ext cx="7516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按有无解剖结构异常 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功能性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器质性吞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根据病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结构性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神经源性吞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精神性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四）吞咽障碍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755640" y="2349360"/>
            <a:ext cx="74088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楷体"/>
              </a:rPr>
              <a:t>根据发生吞咽障碍的阶段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楷体"/>
              </a:rPr>
              <a:t>: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期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期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食管期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四）吞咽障碍的分类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6:51:07Z</dcterms:modified>
  <cp:revision>1</cp:revision>
  <dc:subject/>
  <dc:title>  第三章  康复护理评价</dc:title>
</cp:coreProperties>
</file>